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790-71B1-44AE-9013-55066280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202-E10D-4F9D-84F1-9CE411E5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7D9-B1D2-4F86-9F07-19ABF84A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172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46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4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172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46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A33-99AB-48DD-AC87-DA3FFF34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0F36-E2EF-4D84-82FC-45EA8DEE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B902-41A5-4B3D-B79A-EAC5C25C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DA4E-2537-4D87-B718-DA0EC806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569E-DD44-4F44-BEA6-88ED8463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0838-671D-4400-B793-8104FB05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440" y="188640"/>
            <a:ext cx="7077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F665-B56F-4C1B-B8E1-AD4880AF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F423-7CEC-4CCE-933A-B9F82A5F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2D39-C992-4E3C-A072-D5482B24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986F-2872-4430-8297-E57E84F7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0533-0B0D-4CFF-9034-DDEF5A29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C1AC-6436-4FA1-A9A0-8904468B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DDC6-687A-4354-98D4-F8693C85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172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4640" y="159372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284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172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4640" y="4244760"/>
            <a:ext cx="227880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AD9B-93E8-4202-9976-8E7D23B4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F09F-8254-4CEB-8FD6-A4396C9A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5DE-9782-4C3C-AB9F-93D4F925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33A1-210B-4AC9-82CB-59A912FC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440" y="188640"/>
            <a:ext cx="7077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8F1F-38B6-4662-BEA9-F70FA938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DE9B-B132-439F-8E2F-6E9AAA45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5080" y="424476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D88-C98B-40B2-8DEB-0D4CD3ED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5080" y="1593720"/>
            <a:ext cx="345348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4244760"/>
            <a:ext cx="7077240" cy="24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1562-0DAA-4817-839E-10206A11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440" y="1593720"/>
            <a:ext cx="707724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712D-2699-47E8-AABE-DBDAB6924B1E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95252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D24A-82A1-458E-AC1A-33C817925930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alenciacc.edu/lrcwest/kaysmith.html" TargetMode="External"/><Relationship Id="rId3" Type="http://schemas.openxmlformats.org/officeDocument/2006/relationships/hyperlink" Target="http://valenciacc.edu/lrcwest/kaysmith.html" TargetMode="External"/><Relationship Id="rId4" Type="http://schemas.openxmlformats.org/officeDocument/2006/relationships/hyperlink" Target="http://lynn_meade.tripod.com/id89.htm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95252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peeches – Getting Start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5810040"/>
            <a:ext cx="86868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Help in choosing a topic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93720"/>
            <a:ext cx="860112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Ask yourself: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What am I interested in?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What do I spend time doing?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What do I watch/read/listen to?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What clubs/sports do I belong to?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What is important to me?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189000"/>
            <a:ext cx="7077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Example topic and web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1593720"/>
            <a:ext cx="837252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opic – Ballet is better than HipHop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3505320"/>
            <a:ext cx="2514600" cy="1066680"/>
          </a:xfrm>
          <a:prstGeom prst="ellipse">
            <a:avLst/>
          </a:prstGeom>
          <a:solidFill>
            <a:srgbClr val="68a2b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BALLE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72200" y="3200400"/>
            <a:ext cx="990720" cy="53352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4572000"/>
            <a:ext cx="457200" cy="99072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24480" y="4343400"/>
            <a:ext cx="1143000" cy="68580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029200" y="2666520"/>
            <a:ext cx="0" cy="83844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276360" y="3124080"/>
            <a:ext cx="1066680" cy="53352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895120" y="4191120"/>
            <a:ext cx="114300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962520" y="4495680"/>
            <a:ext cx="457200" cy="68580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4572000"/>
            <a:ext cx="152280" cy="121932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2819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48769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Royal Academy standard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22096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26668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Classical music linked to math skill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29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Gracefu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25909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Highly discipline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038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Less likely to break limb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Pretty cloth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5715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HipHop - Gangster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56707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</a:rPr>
              <a:t>HipHop – dangerous free-for-al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9480" y="5105520"/>
            <a:ext cx="114300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Example Char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593720"/>
            <a:ext cx="791532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For Ballet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For HipHo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iscipline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Less rul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Nice clothes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Own styl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assical music – mat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Unlikely to break limb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Still stuck? </a:t>
            </a:r>
            <a:br>
              <a:rPr sz="4000"/>
            </a:br>
            <a:r>
              <a:rPr b="0" lang="en-US" sz="4000" spc="-1" strike="noStrike">
                <a:solidFill>
                  <a:srgbClr val="080808"/>
                </a:solidFill>
                <a:latin typeface="Tahoma"/>
              </a:rPr>
              <a:t>Sites for possible topics…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844884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963a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3963af"/>
                </a:solidFill>
                <a:uFillTx/>
                <a:latin typeface="Tahoma"/>
                <a:hlinkClick r:id="rId3"/>
              </a:rPr>
              <a:t>valenciacc.edu/lrcwest/kaysmith.html</a:t>
            </a:r>
            <a:br>
              <a:rPr sz="3200"/>
            </a:b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963af"/>
                </a:solidFill>
                <a:uFillTx/>
                <a:latin typeface="Tahoma"/>
                <a:hlinkClick r:id="rId4"/>
              </a:rPr>
              <a:t>http://lynn_meade.tripod.com/id89.htm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(Thanks Cody!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Today: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02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By the end of class finish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opic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eb diagra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hart (optional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f5f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Work on research for web diagram – remember to cite source (author/address)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01:24:56Z</dcterms:created>
  <dc:creator>rebecca.kemshall</dc:creator>
  <dc:description/>
  <dc:language>en-US</dc:language>
  <cp:lastModifiedBy>rebecca.kemshall</cp:lastModifiedBy>
  <dcterms:modified xsi:type="dcterms:W3CDTF">2006-02-08T15:28:44Z</dcterms:modified>
  <cp:revision>1</cp:revision>
  <dc:subject/>
  <dc:title>Speeches – Getting Started</dc:title>
</cp:coreProperties>
</file>